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9BE-CFA7-4349-953E-07EE15D7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6CC-CA8B-4AEF-8CED-90FAB11B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05F-0E99-43BA-9AB7-66F1380C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31F-C63C-473E-A7C5-AAC3D303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686-55BD-422D-96F7-53BDD381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F05-EA08-47F0-B66A-562F88B6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850-D312-4457-BB9E-A40C93CB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967F-B4A2-4427-BC93-ABE3A677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E99-1B67-41B4-A184-B13C39AB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BE5-349F-4BF2-9AF8-4DAE29EA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DA6-321C-4C8A-A7D9-0702319C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96B-83B1-4F56-9FD3-3E58192C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562D-06C3-4E66-9FD7-D28CE1A61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restingtopics.net/storage/picture7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low oce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gasso,  it floats on the water, provides a place to hide for ma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743200"/>
            <a:ext cx="6019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hallow ocean f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specific animals Red drum, blue fish, Spanish, mackerels, king mackerels, blue fin tu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son the red drum are in the shallow ocean is because they can not go in deep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hallow ocean fis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724280" cy="419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3809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low ocean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581280" cy="426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487692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44197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low oce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al reef is a nice place to hide for tile see bass group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37339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2:36:54Z</dcterms:created>
  <dc:creator>dcsuser</dc:creator>
  <dc:description/>
  <dc:language>en-US</dc:language>
  <cp:lastModifiedBy>dcsuser</cp:lastModifiedBy>
  <dcterms:modified xsi:type="dcterms:W3CDTF">2011-11-16T18:45:07Z</dcterms:modified>
  <cp:revision>7</cp:revision>
  <dc:subject/>
  <dc:title>Shallow ocean</dc:title>
</cp:coreProperties>
</file>